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0320-25CC-4D91-ACD6-DDBB84C14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99F5-FEEC-4B9D-98E3-FA858BD0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A9FF-8D81-4113-A958-ED91E6DC9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A32F-0E24-46BD-9CBB-B2AA05DE4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6BBA-7A76-46F8-A507-6E099F53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9172-EBB9-4A84-A36A-18CF35A1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3AC6-C6A9-4A13-8694-995702A8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DFDF-DC03-4BEA-BDD6-DA0E8670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CD25-88D2-494A-833A-EC774FAC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3813-9227-4CB4-9E13-8FCC8DBB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6B39-CDAC-4C4A-A4D2-B0DD417F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95D1-B347-4C23-B02E-6618767D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7FB3-7B61-4F62-8A13-0E60A7CDB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8280" y="914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form sentence HMM for de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29400" y="6324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ta Singh, May 10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2" name=""/>
          <p:cNvCxnSpPr>
            <a:stCxn id="598" idx="3"/>
            <a:endCxn id="61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3" name=""/>
          <p:cNvCxnSpPr>
            <a:stCxn id="601" idx="3"/>
            <a:endCxn id="61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4" name=""/>
          <p:cNvCxnSpPr>
            <a:stCxn id="604" idx="3"/>
            <a:endCxn id="61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stCxn id="607" idx="3"/>
            <a:endCxn id="61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6" name=""/>
          <p:cNvCxnSpPr>
            <a:stCxn id="619" idx="3"/>
            <a:endCxn id="61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7" name=""/>
          <p:cNvCxnSpPr>
            <a:stCxn id="619" idx="3"/>
            <a:endCxn id="61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8" name=""/>
          <p:cNvCxnSpPr>
            <a:stCxn id="619" idx="3"/>
            <a:endCxn id="61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9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4" name=""/>
          <p:cNvCxnSpPr>
            <a:stCxn id="630" idx="3"/>
            <a:endCxn id="651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"/>
          <p:cNvCxnSpPr>
            <a:stCxn id="633" idx="3"/>
            <a:endCxn id="651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6" name=""/>
          <p:cNvCxnSpPr>
            <a:stCxn id="636" idx="3"/>
            <a:endCxn id="651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7" name=""/>
          <p:cNvCxnSpPr>
            <a:stCxn id="639" idx="3"/>
            <a:endCxn id="651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8" name=""/>
          <p:cNvCxnSpPr>
            <a:stCxn id="651" idx="3"/>
            <a:endCxn id="648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9" name=""/>
          <p:cNvCxnSpPr>
            <a:stCxn id="651" idx="3"/>
            <a:endCxn id="645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0" name=""/>
          <p:cNvCxnSpPr>
            <a:stCxn id="651" idx="3"/>
            <a:endCxn id="642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1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5" name=""/>
          <p:cNvCxnSpPr>
            <a:stCxn id="661" idx="3"/>
            <a:endCxn id="682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6" name=""/>
          <p:cNvCxnSpPr>
            <a:stCxn id="664" idx="3"/>
            <a:endCxn id="682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7" name=""/>
          <p:cNvCxnSpPr>
            <a:stCxn id="667" idx="3"/>
            <a:endCxn id="682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8" name=""/>
          <p:cNvCxnSpPr>
            <a:stCxn id="670" idx="3"/>
            <a:endCxn id="682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9" name=""/>
          <p:cNvCxnSpPr>
            <a:stCxn id="682" idx="3"/>
            <a:endCxn id="679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0" name=""/>
          <p:cNvCxnSpPr>
            <a:stCxn id="682" idx="3"/>
            <a:endCxn id="676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1" name=""/>
          <p:cNvCxnSpPr>
            <a:stCxn id="682" idx="3"/>
            <a:endCxn id="673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16" idx="3"/>
            <a:endCxn id="630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5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13" idx="3"/>
            <a:endCxn id="661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7" name=""/>
          <p:cNvCxnSpPr>
            <a:stCxn id="616" idx="3"/>
            <a:endCxn id="598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8" name=""/>
          <p:cNvCxnSpPr>
            <a:stCxn id="610" idx="3"/>
            <a:endCxn id="692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9" name=""/>
          <p:cNvCxnSpPr>
            <a:stCxn id="610" idx="3"/>
            <a:endCxn id="693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0" name=""/>
          <p:cNvCxnSpPr>
            <a:stCxn id="642" idx="3"/>
            <a:endCxn id="692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1" name=""/>
          <p:cNvCxnSpPr>
            <a:stCxn id="645" idx="3"/>
            <a:endCxn id="664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2" name=""/>
          <p:cNvCxnSpPr>
            <a:stCxn id="642" idx="3"/>
            <a:endCxn id="693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73" idx="3"/>
            <a:endCxn id="692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4" name=""/>
          <p:cNvCxnSpPr>
            <a:stCxn id="673" idx="3"/>
            <a:endCxn id="693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5" name=""/>
          <p:cNvCxnSpPr>
            <a:stCxn id="648" idx="3"/>
            <a:endCxn id="633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6" name=""/>
          <p:cNvCxnSpPr>
            <a:stCxn id="648" idx="3"/>
            <a:endCxn id="601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7" name=""/>
          <p:cNvCxnSpPr>
            <a:stCxn id="679" idx="3"/>
            <a:endCxn id="604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8" name=""/>
          <p:cNvCxnSpPr>
            <a:stCxn id="679" idx="3"/>
            <a:endCxn id="636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676" idx="3"/>
            <a:endCxn id="667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0" name=""/>
          <p:cNvCxnSpPr>
            <a:stCxn id="692" idx="3"/>
            <a:endCxn id="670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stCxn id="692" idx="3"/>
            <a:endCxn id="639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2" name=""/>
          <p:cNvCxnSpPr>
            <a:stCxn id="692" idx="3"/>
            <a:endCxn id="607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3" name=""/>
          <p:cNvCxnSpPr>
            <a:stCxn id="692" idx="3"/>
            <a:endCxn id="692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4" name=""/>
          <p:cNvCxnSpPr>
            <a:stCxn id="692" idx="3"/>
            <a:endCxn id="693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5" name=""/>
          <p:cNvCxnSpPr>
            <a:stCxn id="693" idx="3"/>
            <a:endCxn id="693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6" name=""/>
          <p:cNvCxnSpPr>
            <a:stCxn id="693" idx="3"/>
            <a:endCxn id="692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693" idx="3"/>
            <a:endCxn id="667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8" name=""/>
          <p:cNvCxnSpPr>
            <a:stCxn id="693" idx="3"/>
            <a:endCxn id="639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9" name=""/>
          <p:cNvCxnSpPr>
            <a:stCxn id="693" idx="3"/>
            <a:endCxn id="607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9" name=""/>
          <p:cNvCxnSpPr>
            <a:stCxn id="735" idx="3"/>
            <a:endCxn id="75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>
            <a:stCxn id="738" idx="3"/>
            <a:endCxn id="75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>
            <a:stCxn id="741" idx="3"/>
            <a:endCxn id="75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2" name=""/>
          <p:cNvCxnSpPr>
            <a:stCxn id="744" idx="3"/>
            <a:endCxn id="75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3" name=""/>
          <p:cNvCxnSpPr>
            <a:stCxn id="756" idx="3"/>
            <a:endCxn id="75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4" name=""/>
          <p:cNvCxnSpPr>
            <a:stCxn id="756" idx="3"/>
            <a:endCxn id="75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5" name=""/>
          <p:cNvCxnSpPr>
            <a:stCxn id="756" idx="3"/>
            <a:endCxn id="74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"/>
          <p:cNvCxnSpPr>
            <a:stCxn id="767" idx="3"/>
            <a:endCxn id="78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2" name=""/>
          <p:cNvCxnSpPr>
            <a:stCxn id="770" idx="3"/>
            <a:endCxn id="78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3" name=""/>
          <p:cNvCxnSpPr>
            <a:stCxn id="773" idx="3"/>
            <a:endCxn id="78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4" name=""/>
          <p:cNvCxnSpPr>
            <a:stCxn id="776" idx="3"/>
            <a:endCxn id="78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5" name=""/>
          <p:cNvCxnSpPr>
            <a:stCxn id="788" idx="3"/>
            <a:endCxn id="78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6" name=""/>
          <p:cNvCxnSpPr>
            <a:stCxn id="788" idx="3"/>
            <a:endCxn id="78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7" name=""/>
          <p:cNvCxnSpPr>
            <a:stCxn id="788" idx="3"/>
            <a:endCxn id="77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2" name=""/>
          <p:cNvCxnSpPr>
            <a:stCxn id="798" idx="3"/>
            <a:endCxn id="81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3" name=""/>
          <p:cNvCxnSpPr>
            <a:stCxn id="801" idx="3"/>
            <a:endCxn id="81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4" name=""/>
          <p:cNvCxnSpPr>
            <a:stCxn id="804" idx="3"/>
            <a:endCxn id="81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5" name=""/>
          <p:cNvCxnSpPr>
            <a:stCxn id="807" idx="3"/>
            <a:endCxn id="81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6" name=""/>
          <p:cNvCxnSpPr>
            <a:stCxn id="819" idx="3"/>
            <a:endCxn id="81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7" name=""/>
          <p:cNvCxnSpPr>
            <a:stCxn id="819" idx="3"/>
            <a:endCxn id="81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8" name=""/>
          <p:cNvCxnSpPr>
            <a:stCxn id="819" idx="3"/>
            <a:endCxn id="81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753" idx="3"/>
            <a:endCxn id="76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"/>
          <p:cNvSpPr/>
          <p:nvPr/>
        </p:nvSpPr>
        <p:spPr>
          <a:xfrm>
            <a:off x="6324480" y="4952880"/>
            <a:ext cx="259092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ll linking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goes to all sil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con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ilence right contexts go to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750" idx="3"/>
            <a:endCxn id="798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4" name=""/>
          <p:cNvCxnSpPr>
            <a:stCxn id="753" idx="3"/>
            <a:endCxn id="735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5" name=""/>
          <p:cNvCxnSpPr>
            <a:stCxn id="747" idx="3"/>
            <a:endCxn id="829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6" name=""/>
          <p:cNvCxnSpPr>
            <a:stCxn id="747" idx="3"/>
            <a:endCxn id="830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7" name=""/>
          <p:cNvCxnSpPr>
            <a:stCxn id="779" idx="3"/>
            <a:endCxn id="829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8" name=""/>
          <p:cNvCxnSpPr>
            <a:stCxn id="782" idx="3"/>
            <a:endCxn id="801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9" name=""/>
          <p:cNvCxnSpPr>
            <a:stCxn id="779" idx="3"/>
            <a:endCxn id="830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0" name=""/>
          <p:cNvCxnSpPr>
            <a:stCxn id="810" idx="3"/>
            <a:endCxn id="829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1" name=""/>
          <p:cNvCxnSpPr>
            <a:stCxn id="810" idx="3"/>
            <a:endCxn id="830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2" name=""/>
          <p:cNvCxnSpPr>
            <a:stCxn id="785" idx="3"/>
            <a:endCxn id="770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3" name=""/>
          <p:cNvCxnSpPr>
            <a:stCxn id="785" idx="3"/>
            <a:endCxn id="738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4" name=""/>
          <p:cNvCxnSpPr>
            <a:stCxn id="816" idx="3"/>
            <a:endCxn id="741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5" name=""/>
          <p:cNvCxnSpPr>
            <a:stCxn id="816" idx="3"/>
            <a:endCxn id="773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6" name=""/>
          <p:cNvCxnSpPr>
            <a:stCxn id="813" idx="3"/>
            <a:endCxn id="804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7" name=""/>
          <p:cNvCxnSpPr>
            <a:stCxn id="829" idx="3"/>
            <a:endCxn id="807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8" name=""/>
          <p:cNvCxnSpPr>
            <a:stCxn id="829" idx="3"/>
            <a:endCxn id="776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9" name=""/>
          <p:cNvCxnSpPr>
            <a:stCxn id="829" idx="3"/>
            <a:endCxn id="744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0" name=""/>
          <p:cNvCxnSpPr>
            <a:stCxn id="829" idx="3"/>
            <a:endCxn id="829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1" name=""/>
          <p:cNvCxnSpPr>
            <a:stCxn id="829" idx="3"/>
            <a:endCxn id="830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2" name=""/>
          <p:cNvCxnSpPr>
            <a:stCxn id="830" idx="3"/>
            <a:endCxn id="830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3" name=""/>
          <p:cNvCxnSpPr>
            <a:stCxn id="830" idx="3"/>
            <a:endCxn id="829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4" name=""/>
          <p:cNvCxnSpPr>
            <a:stCxn id="830" idx="3"/>
            <a:endCxn id="804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5" name=""/>
          <p:cNvCxnSpPr>
            <a:stCxn id="830" idx="3"/>
            <a:endCxn id="776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6" name=""/>
          <p:cNvCxnSpPr>
            <a:stCxn id="830" idx="3"/>
            <a:endCxn id="744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7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7680" y="76212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4" name=""/>
          <p:cNvCxnSpPr>
            <a:stCxn id="747" idx="3"/>
            <a:endCxn id="862" idx="1"/>
          </p:cNvCxnSpPr>
          <p:nvPr/>
        </p:nvCxnSpPr>
        <p:spPr>
          <a:xfrm flipV="1">
            <a:off x="5105160" y="899280"/>
            <a:ext cx="991080" cy="7772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5" name=""/>
          <p:cNvCxnSpPr>
            <a:stCxn id="779" idx="3"/>
            <a:endCxn id="862" idx="1"/>
          </p:cNvCxnSpPr>
          <p:nvPr/>
        </p:nvCxnSpPr>
        <p:spPr>
          <a:xfrm flipV="1">
            <a:off x="5105160" y="899640"/>
            <a:ext cx="991080" cy="2377440"/>
          </a:xfrm>
          <a:prstGeom prst="curvedConnector5">
            <a:avLst>
              <a:gd name="adj1" fmla="val 50000"/>
              <a:gd name="adj2" fmla="val 4999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6" name=""/>
          <p:cNvCxnSpPr>
            <a:stCxn id="810" idx="3"/>
          </p:cNvCxnSpPr>
          <p:nvPr/>
        </p:nvCxnSpPr>
        <p:spPr>
          <a:xfrm flipV="1">
            <a:off x="5105520" y="1142640"/>
            <a:ext cx="1219680" cy="3734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30" idx="3"/>
            <a:endCxn id="862" idx="3"/>
          </p:cNvCxnSpPr>
          <p:nvPr/>
        </p:nvCxnSpPr>
        <p:spPr>
          <a:xfrm flipV="1">
            <a:off x="4190760" y="899640"/>
            <a:ext cx="2361240" cy="5501520"/>
          </a:xfrm>
          <a:prstGeom prst="curvedConnector5">
            <a:avLst>
              <a:gd name="adj1" fmla="val 103415"/>
              <a:gd name="adj2" fmla="val 49996"/>
              <a:gd name="adj3" fmla="val 103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8" name=""/>
          <p:cNvCxnSpPr>
            <a:stCxn id="829" idx="3"/>
            <a:endCxn id="862" idx="3"/>
          </p:cNvCxnSpPr>
          <p:nvPr/>
        </p:nvCxnSpPr>
        <p:spPr>
          <a:xfrm flipV="1">
            <a:off x="4190760" y="899280"/>
            <a:ext cx="2361240" cy="4892040"/>
          </a:xfrm>
          <a:prstGeom prst="curvedConnector5">
            <a:avLst>
              <a:gd name="adj1" fmla="val 99451"/>
              <a:gd name="adj2" fmla="val 50000"/>
              <a:gd name="adj3" fmla="val 994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752480" y="152280"/>
            <a:ext cx="464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other perspective of the complet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4" name=""/>
          <p:cNvCxnSpPr/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5" name=""/>
          <p:cNvCxnSpPr>
            <a:stCxn id="873" idx="3"/>
            <a:endCxn id="891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6" name=""/>
          <p:cNvCxnSpPr>
            <a:stCxn id="876" idx="3"/>
            <a:endCxn id="891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7" name=""/>
          <p:cNvCxnSpPr>
            <a:stCxn id="879" idx="3"/>
            <a:endCxn id="891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8" name=""/>
          <p:cNvCxnSpPr>
            <a:stCxn id="891" idx="3"/>
            <a:endCxn id="888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9" name=""/>
          <p:cNvCxnSpPr>
            <a:stCxn id="891" idx="3"/>
            <a:endCxn id="885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0" name=""/>
          <p:cNvCxnSpPr>
            <a:stCxn id="891" idx="3"/>
            <a:endCxn id="882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5" name=""/>
          <p:cNvCxnSpPr>
            <a:stCxn id="901" idx="3"/>
            <a:endCxn id="92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6" name=""/>
          <p:cNvCxnSpPr>
            <a:stCxn id="904" idx="3"/>
            <a:endCxn id="92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7" name=""/>
          <p:cNvCxnSpPr>
            <a:stCxn id="907" idx="3"/>
            <a:endCxn id="92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8" name=""/>
          <p:cNvCxnSpPr>
            <a:stCxn id="910" idx="3"/>
            <a:endCxn id="92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9" name=""/>
          <p:cNvCxnSpPr>
            <a:stCxn id="922" idx="3"/>
            <a:endCxn id="91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0" name=""/>
          <p:cNvCxnSpPr>
            <a:stCxn id="922" idx="3"/>
            <a:endCxn id="91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1" name=""/>
          <p:cNvCxnSpPr>
            <a:stCxn id="922" idx="3"/>
            <a:endCxn id="91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6" name=""/>
          <p:cNvCxnSpPr>
            <a:stCxn id="932" idx="3"/>
            <a:endCxn id="95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7" name=""/>
          <p:cNvCxnSpPr>
            <a:stCxn id="935" idx="3"/>
            <a:endCxn id="95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8" name=""/>
          <p:cNvCxnSpPr>
            <a:stCxn id="938" idx="3"/>
            <a:endCxn id="95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9" name=""/>
          <p:cNvCxnSpPr>
            <a:stCxn id="941" idx="3"/>
            <a:endCxn id="95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0" name=""/>
          <p:cNvCxnSpPr>
            <a:stCxn id="953" idx="3"/>
            <a:endCxn id="95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1" name=""/>
          <p:cNvCxnSpPr>
            <a:stCxn id="953" idx="3"/>
            <a:endCxn id="94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2" name=""/>
          <p:cNvCxnSpPr>
            <a:stCxn id="953" idx="3"/>
            <a:endCxn id="94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3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934320" y="762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934320" y="9144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010280" y="914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934320" y="11430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934320" y="12952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010280" y="1295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934320" y="15238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934320" y="16765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010280" y="1676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34320" y="1905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934320" y="20574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010280" y="2057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934320" y="2362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934320" y="25146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010280" y="2514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34320" y="27432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934320" y="2895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010280" y="28954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934320" y="31240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934320" y="32767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010280" y="32767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934320" y="3505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934320" y="36576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010280" y="3657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934320" y="3962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934320" y="41148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010280" y="4114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934320" y="43434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934320" y="44956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010280" y="44956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934320" y="47242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934320" y="48769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010280" y="48769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934320" y="5105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934320" y="52578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010280" y="5257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8001000" y="1752480"/>
            <a:ext cx="15228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8001000" y="1905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8077320" y="19051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8001000" y="137160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8001000" y="1523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8077320" y="15238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00100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1143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8077320" y="11430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8001000" y="33526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8001000" y="35053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077320" y="35053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8001000" y="29718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8001000" y="31240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8077320" y="31240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8001000" y="25909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8001000" y="27432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0773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8001000" y="49528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8001000" y="5105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8077320" y="51055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001000" y="45720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8001000" y="4724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8077320" y="47242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8001000" y="41911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8001000" y="4343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077320" y="43434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690040" y="312408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620120" y="5562720"/>
            <a:ext cx="1522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620120" y="61722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5105520" y="83808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105520" y="914400"/>
            <a:ext cx="1828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105520" y="1295280"/>
            <a:ext cx="18288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8153280" y="1905120"/>
            <a:ext cx="5335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8153280" y="32000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105520" y="1676520"/>
            <a:ext cx="251460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105520" y="1676520"/>
            <a:ext cx="25146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8153280" y="3276720"/>
            <a:ext cx="5335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7772400" y="3352680"/>
            <a:ext cx="10666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7772400" y="3352680"/>
            <a:ext cx="114300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5105520" y="1219320"/>
            <a:ext cx="18288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105520" y="25146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05520" y="289548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105520" y="3276720"/>
            <a:ext cx="25146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105520" y="3276720"/>
            <a:ext cx="259056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5105520" y="1599840"/>
            <a:ext cx="18288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5105520" y="3200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105520" y="449568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105520" y="4876920"/>
            <a:ext cx="2514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105520" y="4876920"/>
            <a:ext cx="2514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4191120" y="2057400"/>
            <a:ext cx="274320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4191120" y="3657240"/>
            <a:ext cx="27432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191120" y="5181480"/>
            <a:ext cx="2743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4191120" y="5638680"/>
            <a:ext cx="3429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191120" y="5791320"/>
            <a:ext cx="3429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4191120" y="2133360"/>
            <a:ext cx="2743200" cy="426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4191120" y="3657600"/>
            <a:ext cx="2743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4191120" y="525744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4191120" y="5638320"/>
            <a:ext cx="3429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4191120" y="6248160"/>
            <a:ext cx="3352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52280" y="5610240"/>
            <a:ext cx="358164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plications of the last two columns are just meant to simplify the diagram (yeah, right..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ely meant to unroll the structure in the previous slide, which is the correc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This completes the sentence HMM for GRAMMARLESS DIGITS DECO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0" y="461880"/>
            <a:ext cx="4572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    F AY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   F OW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    N AY 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breath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is is the assumed vocabul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51160" y="114444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88748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12080" y="188748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6280" y="3962520"/>
            <a:ext cx="499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for forming sentence HM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goes to nod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node1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9907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14479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9051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23623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28195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5" idx="3"/>
          </p:cNvCxnSpPr>
          <p:nvPr/>
        </p:nvCxnSpPr>
        <p:spPr>
          <a:xfrm>
            <a:off x="1461600" y="211572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endCxn id="46" idx="1"/>
          </p:cNvCxnSpPr>
          <p:nvPr/>
        </p:nvCxnSpPr>
        <p:spPr>
          <a:xfrm>
            <a:off x="7100640" y="211572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209680" y="201924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201924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5" idx="0"/>
            <a:endCxn id="48" idx="1"/>
          </p:cNvCxnSpPr>
          <p:nvPr/>
        </p:nvCxnSpPr>
        <p:spPr>
          <a:xfrm flipH="1" flipV="1" rot="5400000">
            <a:off x="2742840" y="72360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49" idx="1"/>
          </p:cNvCxnSpPr>
          <p:nvPr/>
        </p:nvCxnSpPr>
        <p:spPr>
          <a:xfrm flipH="1" flipV="1" rot="5400000">
            <a:off x="2987280" y="9903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6"/>
            <a:endCxn id="50" idx="1"/>
          </p:cNvCxnSpPr>
          <p:nvPr/>
        </p:nvCxnSpPr>
        <p:spPr>
          <a:xfrm>
            <a:off x="2362320" y="209520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5"/>
            <a:endCxn id="51" idx="1"/>
          </p:cNvCxnSpPr>
          <p:nvPr/>
        </p:nvCxnSpPr>
        <p:spPr>
          <a:xfrm flipH="1" rot="16200000">
            <a:off x="2987640" y="15015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4"/>
            <a:endCxn id="52" idx="1"/>
          </p:cNvCxnSpPr>
          <p:nvPr/>
        </p:nvCxnSpPr>
        <p:spPr>
          <a:xfrm flipH="1" rot="16200000">
            <a:off x="2743200" y="17143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3"/>
            <a:endCxn id="56" idx="4"/>
          </p:cNvCxnSpPr>
          <p:nvPr/>
        </p:nvCxnSpPr>
        <p:spPr>
          <a:xfrm flipV="1">
            <a:off x="5105160" y="217152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3"/>
            <a:endCxn id="56" idx="3"/>
          </p:cNvCxnSpPr>
          <p:nvPr/>
        </p:nvCxnSpPr>
        <p:spPr>
          <a:xfrm flipV="1">
            <a:off x="5105160" y="214920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0" idx="3"/>
            <a:endCxn id="56" idx="2"/>
          </p:cNvCxnSpPr>
          <p:nvPr/>
        </p:nvCxnSpPr>
        <p:spPr>
          <a:xfrm>
            <a:off x="5105520" y="209520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9" idx="3"/>
            <a:endCxn id="56" idx="1"/>
          </p:cNvCxnSpPr>
          <p:nvPr/>
        </p:nvCxnSpPr>
        <p:spPr>
          <a:xfrm>
            <a:off x="5105160" y="163836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8" idx="3"/>
            <a:endCxn id="56" idx="0"/>
          </p:cNvCxnSpPr>
          <p:nvPr/>
        </p:nvCxnSpPr>
        <p:spPr>
          <a:xfrm>
            <a:off x="5105160" y="118116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6" idx="5"/>
            <a:endCxn id="55" idx="3"/>
          </p:cNvCxnSpPr>
          <p:nvPr/>
        </p:nvCxnSpPr>
        <p:spPr>
          <a:xfrm rot="5400000">
            <a:off x="4646520" y="-266040"/>
            <a:ext cx="2160" cy="4833000"/>
          </a:xfrm>
          <a:prstGeom prst="bentConnector3">
            <a:avLst>
              <a:gd name="adj1" fmla="val 9378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2819520" y="763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context-independent word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51160" y="122076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96380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12080" y="196380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69520" y="4572000"/>
            <a:ext cx="3937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ules for forming triphone-based sentence HMM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gin to node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possible word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2 to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0666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15238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19810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24382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28954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2" idx="3"/>
          </p:cNvCxnSpPr>
          <p:nvPr/>
        </p:nvCxnSpPr>
        <p:spPr>
          <a:xfrm>
            <a:off x="1461600" y="219204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endCxn id="73" idx="1"/>
          </p:cNvCxnSpPr>
          <p:nvPr/>
        </p:nvCxnSpPr>
        <p:spPr>
          <a:xfrm>
            <a:off x="7100640" y="219204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2209680" y="20955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209556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0"/>
            <a:endCxn id="75" idx="1"/>
          </p:cNvCxnSpPr>
          <p:nvPr/>
        </p:nvCxnSpPr>
        <p:spPr>
          <a:xfrm flipH="1" flipV="1" rot="5400000">
            <a:off x="2742840" y="7999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2" idx="7"/>
            <a:endCxn id="76" idx="1"/>
          </p:cNvCxnSpPr>
          <p:nvPr/>
        </p:nvCxnSpPr>
        <p:spPr>
          <a:xfrm flipH="1" flipV="1" rot="5400000">
            <a:off x="2987280" y="106668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2" idx="6"/>
            <a:endCxn id="77" idx="1"/>
          </p:cNvCxnSpPr>
          <p:nvPr/>
        </p:nvCxnSpPr>
        <p:spPr>
          <a:xfrm>
            <a:off x="2362320" y="217152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2" idx="5"/>
            <a:endCxn id="78" idx="1"/>
          </p:cNvCxnSpPr>
          <p:nvPr/>
        </p:nvCxnSpPr>
        <p:spPr>
          <a:xfrm flipH="1" rot="16200000">
            <a:off x="2987280" y="1577520"/>
            <a:ext cx="40428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2" idx="4"/>
            <a:endCxn id="79" idx="1"/>
          </p:cNvCxnSpPr>
          <p:nvPr/>
        </p:nvCxnSpPr>
        <p:spPr>
          <a:xfrm flipH="1" rot="16200000">
            <a:off x="2742840" y="1790280"/>
            <a:ext cx="83916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9" idx="3"/>
            <a:endCxn id="83" idx="4"/>
          </p:cNvCxnSpPr>
          <p:nvPr/>
        </p:nvCxnSpPr>
        <p:spPr>
          <a:xfrm flipV="1">
            <a:off x="5105160" y="2247120"/>
            <a:ext cx="19054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8" idx="3"/>
            <a:endCxn id="83" idx="3"/>
          </p:cNvCxnSpPr>
          <p:nvPr/>
        </p:nvCxnSpPr>
        <p:spPr>
          <a:xfrm flipV="1">
            <a:off x="5105160" y="2224800"/>
            <a:ext cx="1851480" cy="404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77" idx="3"/>
            <a:endCxn id="83" idx="2"/>
          </p:cNvCxnSpPr>
          <p:nvPr/>
        </p:nvCxnSpPr>
        <p:spPr>
          <a:xfrm>
            <a:off x="5105520" y="217152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6" idx="3"/>
            <a:endCxn id="83" idx="1"/>
          </p:cNvCxnSpPr>
          <p:nvPr/>
        </p:nvCxnSpPr>
        <p:spPr>
          <a:xfrm>
            <a:off x="5105160" y="171468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5" idx="3"/>
            <a:endCxn id="83" idx="0"/>
          </p:cNvCxnSpPr>
          <p:nvPr/>
        </p:nvCxnSpPr>
        <p:spPr>
          <a:xfrm>
            <a:off x="5105160" y="125748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5" idx="3"/>
            <a:endCxn id="75" idx="1"/>
          </p:cNvCxnSpPr>
          <p:nvPr/>
        </p:nvCxnSpPr>
        <p:spPr>
          <a:xfrm flipH="1">
            <a:off x="4038120" y="1257480"/>
            <a:ext cx="1067760" cy="2160"/>
          </a:xfrm>
          <a:prstGeom prst="bentConnector5">
            <a:avLst>
              <a:gd name="adj1" fmla="val -21416"/>
              <a:gd name="adj2" fmla="val -2640000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75" idx="3"/>
            <a:endCxn id="76" idx="1"/>
          </p:cNvCxnSpPr>
          <p:nvPr/>
        </p:nvCxnSpPr>
        <p:spPr>
          <a:xfrm flipH="1">
            <a:off x="4038120" y="1257480"/>
            <a:ext cx="1067760" cy="457920"/>
          </a:xfrm>
          <a:prstGeom prst="bentConnector5">
            <a:avLst>
              <a:gd name="adj1" fmla="val -21416"/>
              <a:gd name="adj2" fmla="val 4996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75" idx="3"/>
            <a:endCxn id="77" idx="1"/>
          </p:cNvCxnSpPr>
          <p:nvPr/>
        </p:nvCxnSpPr>
        <p:spPr>
          <a:xfrm flipH="1">
            <a:off x="4038120" y="1257480"/>
            <a:ext cx="1067760" cy="915120"/>
          </a:xfrm>
          <a:prstGeom prst="bentConnector5">
            <a:avLst>
              <a:gd name="adj1" fmla="val -39123"/>
              <a:gd name="adj2" fmla="val 76347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75" idx="3"/>
            <a:endCxn id="78" idx="1"/>
          </p:cNvCxnSpPr>
          <p:nvPr/>
        </p:nvCxnSpPr>
        <p:spPr>
          <a:xfrm flipH="1">
            <a:off x="4038120" y="1257480"/>
            <a:ext cx="1067760" cy="1372320"/>
          </a:xfrm>
          <a:prstGeom prst="bentConnector5">
            <a:avLst>
              <a:gd name="adj1" fmla="val -56964"/>
              <a:gd name="adj2" fmla="val 83652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5" idx="3"/>
            <a:endCxn id="79" idx="1"/>
          </p:cNvCxnSpPr>
          <p:nvPr/>
        </p:nvCxnSpPr>
        <p:spPr>
          <a:xfrm flipH="1">
            <a:off x="4038120" y="1257480"/>
            <a:ext cx="1067760" cy="1829520"/>
          </a:xfrm>
          <a:prstGeom prst="bentConnector5">
            <a:avLst>
              <a:gd name="adj1" fmla="val -77672"/>
              <a:gd name="adj2" fmla="val 86616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2280" y="3657600"/>
            <a:ext cx="659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Loops from the end of Five to the beginning of all 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Similar loops from Four, Nine, &lt;sil&gt;, ++Breath++ present but not sh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No loop from 2 t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2476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4724280"/>
            <a:ext cx="8458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A triphone is a single phone with context INFORMATION. It is not a literal sequence of 3 phones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xpand the word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last phones (except filler) become left contexts for first phone of Fo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first phones (except filler) become right contexts for last phone of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lence can form contexts, but itself does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er phones (e.g. +breath+) are treated as silence when building contexts. Like  silence, they themselves do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79800" y="2971800"/>
            <a:ext cx="434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triple-box represents a triphone. Each tri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is actually a left-to-right HMM (could have 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states. Each state is a senone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18" idx="3"/>
            <a:endCxn id="13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21" idx="3"/>
            <a:endCxn id="13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24" idx="3"/>
            <a:endCxn id="13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27" idx="3"/>
            <a:endCxn id="13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9" idx="3"/>
            <a:endCxn id="13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9" idx="3"/>
            <a:endCxn id="13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9" idx="3"/>
            <a:endCxn id="13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6781680" y="24382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25909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0280" y="28195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10280" y="30481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32767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0280" y="35053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396252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10280" y="419112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53560" y="2498760"/>
            <a:ext cx="92304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+breat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77" idx="3"/>
            <a:endCxn id="19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80" idx="3"/>
            <a:endCxn id="19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83" idx="3"/>
            <a:endCxn id="19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86" idx="3"/>
            <a:endCxn id="19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8" idx="3"/>
            <a:endCxn id="19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8" idx="3"/>
            <a:endCxn id="19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198" idx="3"/>
            <a:endCxn id="18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11" idx="3"/>
            <a:endCxn id="23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14" idx="3"/>
            <a:endCxn id="23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17" idx="3"/>
            <a:endCxn id="23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20" idx="3"/>
            <a:endCxn id="23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2" idx="3"/>
            <a:endCxn id="22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2" idx="3"/>
            <a:endCxn id="22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2" idx="3"/>
            <a:endCxn id="22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57" idx="3"/>
            <a:endCxn id="27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60" idx="3"/>
            <a:endCxn id="27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63" idx="3"/>
            <a:endCxn id="27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66" idx="3"/>
            <a:endCxn id="27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8" idx="3"/>
            <a:endCxn id="27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8" idx="3"/>
            <a:endCxn id="27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78" idx="3"/>
            <a:endCxn id="26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7160" y="434340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291" idx="3"/>
            <a:endCxn id="31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294" idx="3"/>
            <a:endCxn id="31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297" idx="3"/>
            <a:endCxn id="31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00" idx="3"/>
            <a:endCxn id="31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"/>
          <p:cNvCxnSpPr>
            <a:stCxn id="312" idx="3"/>
            <a:endCxn id="30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"/>
          <p:cNvCxnSpPr>
            <a:stCxn id="312" idx="3"/>
            <a:endCxn id="30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1" name=""/>
          <p:cNvCxnSpPr>
            <a:stCxn id="312" idx="3"/>
            <a:endCxn id="30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22" idx="3"/>
            <a:endCxn id="34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25" idx="3"/>
            <a:endCxn id="34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28" idx="3"/>
            <a:endCxn id="34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31" idx="3"/>
            <a:endCxn id="34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43" idx="3"/>
            <a:endCxn id="34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3" idx="3"/>
            <a:endCxn id="33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43" idx="3"/>
            <a:endCxn id="33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69" idx="3"/>
            <a:endCxn id="390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stCxn id="372" idx="3"/>
            <a:endCxn id="390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>
            <a:stCxn id="375" idx="3"/>
            <a:endCxn id="390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stCxn id="378" idx="3"/>
            <a:endCxn id="390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>
            <a:stCxn id="390" idx="3"/>
            <a:endCxn id="387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90" idx="3"/>
            <a:endCxn id="384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"/>
          <p:cNvCxnSpPr>
            <a:stCxn id="390" idx="3"/>
            <a:endCxn id="381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0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7160" y="441972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03" idx="3"/>
            <a:endCxn id="424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06" idx="3"/>
            <a:endCxn id="424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09" idx="3"/>
            <a:endCxn id="424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0" name=""/>
          <p:cNvCxnSpPr>
            <a:stCxn id="412" idx="3"/>
            <a:endCxn id="424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"/>
          <p:cNvCxnSpPr>
            <a:stCxn id="424" idx="3"/>
            <a:endCxn id="421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24" idx="3"/>
            <a:endCxn id="418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24" idx="3"/>
            <a:endCxn id="415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"/>
          <p:cNvCxnSpPr>
            <a:stCxn id="434" idx="3"/>
            <a:endCxn id="455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9" name=""/>
          <p:cNvCxnSpPr>
            <a:stCxn id="437" idx="3"/>
            <a:endCxn id="455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0" name=""/>
          <p:cNvCxnSpPr>
            <a:stCxn id="440" idx="3"/>
            <a:endCxn id="455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"/>
          <p:cNvCxnSpPr>
            <a:stCxn id="443" idx="3"/>
            <a:endCxn id="455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55" idx="3"/>
            <a:endCxn id="452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55" idx="3"/>
            <a:endCxn id="449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55" idx="3"/>
            <a:endCxn id="446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5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6800" y="563868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&lt;sil&gt;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4640" y="61722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++breath++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"/>
          <p:cNvCxnSpPr>
            <a:stCxn id="485" idx="3"/>
            <a:endCxn id="50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488" idx="3"/>
            <a:endCxn id="50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1" idx="3"/>
            <a:endCxn id="50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494" idx="3"/>
            <a:endCxn id="50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3" name=""/>
          <p:cNvCxnSpPr>
            <a:stCxn id="506" idx="3"/>
            <a:endCxn id="50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4" name=""/>
          <p:cNvCxnSpPr>
            <a:stCxn id="506" idx="3"/>
            <a:endCxn id="50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5" name=""/>
          <p:cNvCxnSpPr>
            <a:stCxn id="506" idx="3"/>
            <a:endCxn id="49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"/>
          <p:cNvCxnSpPr>
            <a:stCxn id="517" idx="3"/>
            <a:endCxn id="53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2" name=""/>
          <p:cNvCxnSpPr>
            <a:stCxn id="520" idx="3"/>
            <a:endCxn id="53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"/>
          <p:cNvCxnSpPr>
            <a:stCxn id="523" idx="3"/>
            <a:endCxn id="53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26" idx="3"/>
            <a:endCxn id="53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8" idx="3"/>
            <a:endCxn id="53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8" idx="3"/>
            <a:endCxn id="53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38" idx="3"/>
            <a:endCxn id="52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>
            <a:stCxn id="548" idx="3"/>
            <a:endCxn id="56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51" idx="3"/>
            <a:endCxn id="56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54" idx="3"/>
            <a:endCxn id="56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5" name=""/>
          <p:cNvCxnSpPr>
            <a:stCxn id="557" idx="3"/>
            <a:endCxn id="56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>
            <a:stCxn id="569" idx="3"/>
            <a:endCxn id="56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"/>
          <p:cNvCxnSpPr>
            <a:stCxn id="569" idx="3"/>
            <a:endCxn id="56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>
            <a:stCxn id="569" idx="3"/>
            <a:endCxn id="56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1" name=""/>
          <p:cNvCxnSpPr>
            <a:stCxn id="503" idx="3"/>
            <a:endCxn id="51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2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9T23:47:50Z</dcterms:created>
  <dc:creator>bhiksha</dc:creator>
  <dc:description/>
  <dc:language>en-US</dc:language>
  <cp:lastModifiedBy>bhiksha</cp:lastModifiedBy>
  <dcterms:modified xsi:type="dcterms:W3CDTF">2002-05-10T04:56:31Z</dcterms:modified>
  <cp:revision>16</cp:revision>
  <dc:subject/>
  <dc:title>PowerPoint Presentation</dc:title>
</cp:coreProperties>
</file>